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11.wmf" ContentType="image/x-wmf"/>
  <Override PartName="/ppt/media/image12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283-CE77-4956-B6E1-FD3CF663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CD4-8367-4207-A8AB-96A2F8BB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DC28-5EEE-42B1-B34C-0B6AAB60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84F-1067-4136-9023-C26C586D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6E6-58E7-46CA-85C1-2A18A65D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CEA-C0EB-475F-9B6C-6C2BFD8A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37A-A9B3-4B55-8B92-22004363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3C4-0FD7-4C15-9C0F-CD007C41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403-0434-4BD1-AC8D-A20AF895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8D7-D166-44D6-8F93-9086CEF2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83F-8766-4154-9E5B-4F4C15E2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2C6-208E-41B2-B261-A0BD7D74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8EE4-F170-4D4D-A054-A39DE584A6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Формулы сокращенного умнож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CC21-7416-4152-8370-F069EC660B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OWL"/>
          <p:cNvPicPr/>
          <p:nvPr/>
        </p:nvPicPr>
        <p:blipFill>
          <a:blip r:embed="rId1"/>
          <a:stretch/>
        </p:blipFill>
        <p:spPr>
          <a:xfrm>
            <a:off x="357120" y="2571840"/>
            <a:ext cx="1857600" cy="286704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3" descr=""/>
          <p:cNvPicPr/>
          <p:nvPr/>
        </p:nvPicPr>
        <p:blipFill>
          <a:blip r:embed="rId2"/>
          <a:stretch/>
        </p:blipFill>
        <p:spPr>
          <a:xfrm>
            <a:off x="1920960" y="2425680"/>
            <a:ext cx="72961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E428-83E4-473C-A52A-1D81EEA2D5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500280" y="214200"/>
            <a:ext cx="17859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500040" y="2428920"/>
            <a:ext cx="84297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чимся применять на практике формулы сокращенного умно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отовимся к контрольной рабо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D8D8-8354-4175-92DC-3E31294459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071800" y="214200"/>
            <a:ext cx="41432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baseline="30000">
                <a:solidFill>
                  <a:srgbClr val="ffffff"/>
                </a:solidFill>
                <a:latin typeface="Arial"/>
              </a:rPr>
              <a:t>Девиз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урока</a:t>
            </a:r>
            <a:r>
              <a:rPr b="0" lang="ru-RU" sz="4400" spc="-1" strike="noStrike" baseline="30000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785880" y="2428920"/>
            <a:ext cx="7500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о иметь хороший ум, главное – уметь его применять.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Дек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A384-4B49-46CF-B349-18ADE46BEA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85960" y="1928880"/>
          <a:ext cx="5500800" cy="3357360"/>
        </p:xfrm>
        <a:graphic>
          <a:graphicData uri="http://schemas.openxmlformats.org/drawingml/2006/table">
            <a:tbl>
              <a:tblPr/>
              <a:tblGrid>
                <a:gridCol w="1882800"/>
                <a:gridCol w="361800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² +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 + 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- в²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 в)(а²-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+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-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 -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+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"/>
          <p:cNvSpPr/>
          <p:nvPr/>
        </p:nvSpPr>
        <p:spPr>
          <a:xfrm>
            <a:off x="1143000" y="35856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ерите и запишите форму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429A-04E3-46AE-B241-A9D8B75F45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85960" y="1928880"/>
          <a:ext cx="5500800" cy="3357360"/>
        </p:xfrm>
        <a:graphic>
          <a:graphicData uri="http://schemas.openxmlformats.org/drawingml/2006/table">
            <a:tbl>
              <a:tblPr/>
              <a:tblGrid>
                <a:gridCol w="1882800"/>
                <a:gridCol w="361800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+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-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- в²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 + 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+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 в)(а²-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 -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² +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1143000" y="35928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елаем проверк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15A1-370A-4EE3-937F-50D230B1C4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йте выра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348120" y="1285920"/>
            <a:ext cx="41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4706280" y="1285920"/>
            <a:ext cx="42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2714760"/>
            <a:ext cx="442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ь кубов двух выражений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ю раз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выражени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ый квадрат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4518720" y="2714760"/>
            <a:ext cx="473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 кубов дв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й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ю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выражени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ый квадрат раз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E57A-8FEB-4778-BC85-6D0F5CDB6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1695600" y="2298600"/>
            <a:ext cx="540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4D3B-957F-4ACD-AD6F-4526E83D92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ошиб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0"/>
          <p:cNvSpPr/>
          <p:nvPr/>
        </p:nvSpPr>
        <p:spPr>
          <a:xfrm>
            <a:off x="21420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(49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-10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р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р+10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а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а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а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³- х³=(3-х)(9-3х+х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2"/>
          <p:cNvSpPr/>
          <p:nvPr/>
        </p:nvSpPr>
        <p:spPr>
          <a:xfrm>
            <a:off x="471492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-2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+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7-14а+ а²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у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6у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³+8=(с+2)(с²+2с+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773D-0485-4D43-A5BF-7F290CD238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и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0"/>
          <p:cNvSpPr/>
          <p:nvPr/>
        </p:nvSpPr>
        <p:spPr>
          <a:xfrm>
            <a:off x="21420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-10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р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р+10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а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а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³- х³=(3-х)(9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+х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2"/>
          <p:cNvSpPr/>
          <p:nvPr/>
        </p:nvSpPr>
        <p:spPr>
          <a:xfrm>
            <a:off x="471492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-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а+ а²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у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6у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³+8=(с+2)(с²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с+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4:26:35Z</dcterms:created>
  <dc:creator>Администратор</dc:creator>
  <dc:description/>
  <dc:language>en-US</dc:language>
  <cp:lastModifiedBy>АДМИН</cp:lastModifiedBy>
  <dcterms:modified xsi:type="dcterms:W3CDTF">2012-03-19T07:19:03Z</dcterms:modified>
  <cp:revision>60</cp:revision>
  <dc:subject/>
  <dc:title>Тренажер №2 “Формулы сокращенного умножения”</dc:title>
</cp:coreProperties>
</file>